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14603"/>
        <c:axId val="44712511"/>
      </c:barChart>
      <c:catAx>
        <c:axId val="54214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12511"/>
        <c:crosses val="autoZero"/>
        <c:auto val="1"/>
        <c:lblAlgn val="ctr"/>
        <c:lblOffset val="100"/>
        <c:noMultiLvlLbl val="0"/>
      </c:catAx>
      <c:valAx>
        <c:axId val="44712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14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CF9-AAA1-40C5-A561-5C2BC917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D3C-469B-4AAA-BF97-FF857CEA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57A-40AF-4AF5-9FAF-EDBBBACD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7E2-A06F-44DE-9CFE-372E72FE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EBC-E486-4CAA-AC0B-57A65F0D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C18-3B2A-431A-888F-0E9269FF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3E6-C421-485C-91B9-378F4C91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C90-D46F-4A8F-8476-BF36837B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ACC-2C3F-41D5-BE05-F8E422A0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4548-3B78-4FC3-B3A1-7AD703DB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C9F-DEF6-4033-B69D-9B34034A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67D-D59B-47FF-B749-2EF88C8C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5CDD2-409A-4FAB-9E1C-102EE95ECA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