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93312"/>
        <c:axId val="15719149"/>
      </c:barChart>
      <c:catAx>
        <c:axId val="43993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19149"/>
        <c:crosses val="autoZero"/>
        <c:auto val="1"/>
        <c:lblAlgn val="ctr"/>
        <c:lblOffset val="100"/>
        <c:noMultiLvlLbl val="0"/>
      </c:catAx>
      <c:valAx>
        <c:axId val="15719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3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823-2CE3-433E-ACC4-F4EF999C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F08-2CA5-41D4-A719-E5D1361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887-E3CF-40DD-85DB-01E577DA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FCF-5483-49C5-8E35-925CC094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34B-ED6B-4279-A624-C8A3AB0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2B0-13D4-40C4-AB64-C36B9A7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F48-F9B3-4C28-A696-D179A63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876-8146-4D22-9C4B-DC6377E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B61-79D6-457A-94F5-EB517370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4B4-891A-479B-8768-CFC33E4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AA5-65B1-40EF-9727-642C546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926-D557-41A5-8740-5E58FA65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C8C21-BC4C-484A-A449-0B93514C6A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