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55895"/>
        <c:axId val="17314581"/>
      </c:barChart>
      <c:catAx>
        <c:axId val="93955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14581"/>
        <c:crosses val="autoZero"/>
        <c:auto val="1"/>
        <c:lblAlgn val="ctr"/>
        <c:lblOffset val="100"/>
        <c:noMultiLvlLbl val="0"/>
      </c:catAx>
      <c:valAx>
        <c:axId val="17314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55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B9A-D259-4048-8E3A-0C4D670C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759-4DF8-4955-8D40-BB451848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73A-DC14-4433-91F7-1A0C28CC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BF2-E32A-4906-9067-FB37864F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CD7-008E-4A03-A146-D1133C88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339-4D67-4C18-91C7-56D9D9B8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4EE-9F13-4F4A-8845-39F8E4CB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CA3-9DD9-47CA-9E62-CE310BE7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FC0-DC2E-495B-9203-FC9BFC22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3CD-5905-4E3E-8F95-515C067B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B60-0A4D-4F9E-AA5F-75E797B2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67C-44D2-4BD0-9690-6D3BD39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98BB5-9465-4627-9F5A-B0922284E7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