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95751"/>
        <c:axId val="42288049"/>
      </c:barChart>
      <c:catAx>
        <c:axId val="78395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88049"/>
        <c:crosses val="autoZero"/>
        <c:auto val="1"/>
        <c:lblAlgn val="ctr"/>
        <c:lblOffset val="100"/>
        <c:noMultiLvlLbl val="0"/>
      </c:catAx>
      <c:valAx>
        <c:axId val="42288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95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52B-15D5-4FA1-BB25-3A0FD030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6F3-D050-4474-AE15-3A5927A5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D21-85CD-452A-8D10-24AABC47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03B-F9ED-4B01-A78A-13A6FE41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520-924E-4DD3-8D4C-17F6DA6C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A8D-0EFE-4F65-B8ED-569215CA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542-5341-4541-8BE3-E1A0CD73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FF9-9F4D-442E-910E-7C5856F9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6AF-E09B-4BE5-9C8E-06A292AE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995-324A-4A8A-93E7-6784D92E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BC4-99D8-4BF1-8262-DE785BD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B19-7C8E-4F88-816C-46307E78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55827-DF35-41D4-A153-4A56AEE651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