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37452"/>
        <c:axId val="6071260"/>
      </c:barChart>
      <c:catAx>
        <c:axId val="55037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260"/>
        <c:crosses val="autoZero"/>
        <c:auto val="1"/>
        <c:lblAlgn val="ctr"/>
        <c:lblOffset val="100"/>
        <c:noMultiLvlLbl val="0"/>
      </c:catAx>
      <c:valAx>
        <c:axId val="6071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37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59A-39AF-4D8B-BA0B-B6ED1444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46D-157B-4716-BBEF-5351037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749-1734-4BB0-9194-0237E389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4E9-0B4A-469C-87B5-E4CBEF37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029-262E-4E62-8895-C8109135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918-1074-4740-9F14-4B508E08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92A-305E-47BF-83A3-FE709074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0FB-91D0-40F6-A655-718CF10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64C-49CA-453F-BFEF-0040ECFE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E84-2BC8-4B0D-A146-1142E63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E89-4CB5-40E8-8922-154B707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12F-69A3-4A57-AD3E-154A8D7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4FA9D-6285-48CB-BB02-E90618660C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