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723736"/>
        <c:axId val="50322454"/>
      </c:barChart>
      <c:catAx>
        <c:axId val="647237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322454"/>
        <c:crosses val="autoZero"/>
        <c:auto val="1"/>
        <c:lblAlgn val="ctr"/>
        <c:lblOffset val="100"/>
        <c:noMultiLvlLbl val="0"/>
      </c:catAx>
      <c:valAx>
        <c:axId val="503224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7237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2779-E2AF-4EFE-81F7-46F588E12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9E44-38E5-4724-A47D-28C30F2C1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32CD-C2A1-46EF-9584-B2E46A20E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8263-DE44-4A6A-ABD0-52220F5FB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3DDE-8297-4415-AE46-0650B52CD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0545-B526-4C39-96CA-B0B43CD18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EE85-676E-4F16-BAEE-CE8126840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EFDC-A3BA-42AB-ACEE-4F755F365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7758-9161-4165-A9FF-EDD7112D5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223D-9D43-4911-8BD8-4EE8C72E4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3A1A-CF1F-4C31-8FCC-97FE61BB5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7CC9-EA2A-4260-B508-06970698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50A62C-DF9A-4464-BA1E-DAC9EC1657E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