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00754"/>
        <c:axId val="7947885"/>
      </c:barChart>
      <c:catAx>
        <c:axId val="19700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7885"/>
        <c:crosses val="autoZero"/>
        <c:auto val="1"/>
        <c:lblAlgn val="ctr"/>
        <c:lblOffset val="100"/>
        <c:noMultiLvlLbl val="0"/>
      </c:catAx>
      <c:valAx>
        <c:axId val="7947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00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111-D1BD-45F3-A08A-F2BE5CB7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C3C-556F-45E9-B98A-1DDEA28B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A05-A95F-4FA8-BACA-812FBF11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DD3-277D-48A1-B18F-4E96280A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AEB-2934-438D-9E86-4533B983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A57-5E78-4DA3-BEF2-1840B1DF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92E-8D94-4223-B92B-EB530D34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A6D-FF55-48D0-A331-00668E6D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989-D552-4EF6-B3FE-B83420B6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9F4-56E4-4802-86E7-6E622EFD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7FD-DBCF-4BB6-819C-914630C7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880-7FAF-4F93-9246-0A052E1F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EF826-3101-4F07-B535-E487D2F283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