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86698"/>
        <c:axId val="2489322"/>
      </c:barChart>
      <c:catAx>
        <c:axId val="39986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9322"/>
        <c:crosses val="autoZero"/>
        <c:auto val="1"/>
        <c:lblAlgn val="ctr"/>
        <c:lblOffset val="100"/>
        <c:noMultiLvlLbl val="0"/>
      </c:catAx>
      <c:valAx>
        <c:axId val="2489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86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0AC-09E4-4F33-A61D-89DB5343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8A6-2D0B-4966-B9C7-D1A78E8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13D-EB4A-4FE6-A17B-91DF6A6A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5B9-82DB-4EEB-98ED-EE18512B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672-39B7-44B0-8B44-D1EDB506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40F-0C11-4B7F-BEC9-58572C77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F15-6D1E-4321-B540-9E9DAC20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D9C-9DC8-4C5F-BCCA-BC7EFA4C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9F1-668B-4C7A-B467-08587E7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5F3-6F1C-492D-B88B-9525E76C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853-526F-4893-9F93-084D9AD9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57B-F92B-4FD3-92A9-7C1AD15A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B1A00-D7C6-45D0-B7EE-156828ED39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