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515777"/>
        <c:axId val="2040547"/>
      </c:barChart>
      <c:catAx>
        <c:axId val="415157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40547"/>
        <c:crosses val="autoZero"/>
        <c:auto val="1"/>
        <c:lblAlgn val="ctr"/>
        <c:lblOffset val="100"/>
        <c:noMultiLvlLbl val="0"/>
      </c:catAx>
      <c:valAx>
        <c:axId val="20405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5157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1B67-B99C-4AB3-9B6C-3CC2AAD74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D77D-D744-4510-9B95-C1025E19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C31F-B46D-4E82-813B-4AE148035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9008-389E-48B1-AA46-94247A400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3F58-8028-4E16-949A-57D057C4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52C0-064F-4793-8991-8309A9E2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4DA1-881B-46D2-ADBF-D3A8B560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BC70-7B1A-4231-BF41-112B426A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AAB1-C400-4939-A7F6-3912AA9C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760B-1097-43A1-BE42-824592C8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1A3C-CF65-4F01-AFB2-3D849019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DD21-BAA3-4446-9276-CB73FC05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ACDBC9-38A2-4BCD-ACBF-7B9895F1AB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