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295662"/>
        <c:axId val="28183730"/>
      </c:barChart>
      <c:catAx>
        <c:axId val="482956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83730"/>
        <c:crosses val="autoZero"/>
        <c:auto val="1"/>
        <c:lblAlgn val="ctr"/>
        <c:lblOffset val="100"/>
        <c:noMultiLvlLbl val="0"/>
      </c:catAx>
      <c:valAx>
        <c:axId val="281837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956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8EB2-3F1D-40C2-8429-F8349291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430B-51B1-4CC7-AA29-3EE477EC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644A-6CF1-4B30-A2BE-775CFE85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1DCF-91E0-4D62-9929-47099A6F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4CB4-9197-42F2-B2B8-50F18A36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6E86-D92F-43B0-A043-D2F0C81E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14C6-E7C7-4249-9A3C-BF4DD2C1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2CB6-B1F5-4F19-BD3F-F2420BE8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6857-3C72-4904-97AC-363C1F26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556B-CF54-4EC4-9662-A0454770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C723-EFCE-4A3A-ABCC-7FCB7DBB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3CF5-AF20-4F96-AC81-09A909DB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D5D38-2829-4B06-B805-F088E747A5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