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326672"/>
        <c:axId val="35463455"/>
      </c:barChart>
      <c:catAx>
        <c:axId val="873266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63455"/>
        <c:crosses val="autoZero"/>
        <c:auto val="1"/>
        <c:lblAlgn val="ctr"/>
        <c:lblOffset val="100"/>
        <c:noMultiLvlLbl val="0"/>
      </c:catAx>
      <c:valAx>
        <c:axId val="354634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266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A9C6-A5BA-423B-B738-002F5EF2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5170-A7D2-4A43-8417-BE88C088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BF87-874C-4257-829A-52FAC8D1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C51A-47A4-4C67-986B-3529891D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65CA-1EBB-43C0-BFB4-7C8833E4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B35B-7636-4BD3-B0CB-669A91D3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CBA9-7880-4C56-B3D4-D3D8DE55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27BE-52F9-459B-B4DB-4C512C29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EECF-9AFD-4CBA-98D7-70DFAB7E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F5BC-67D8-40B1-964A-9569D8B0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EED2-4679-40AD-9BF0-D6ECF910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72CB-9E29-4348-9D46-107AFC08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78BC7-3F39-43F0-847D-DDA4F902EB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