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40048"/>
        <c:axId val="19675999"/>
      </c:barChart>
      <c:catAx>
        <c:axId val="84540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75999"/>
        <c:crosses val="autoZero"/>
        <c:auto val="1"/>
        <c:lblAlgn val="ctr"/>
        <c:lblOffset val="100"/>
        <c:noMultiLvlLbl val="0"/>
      </c:catAx>
      <c:valAx>
        <c:axId val="196759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40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8B6-3583-4686-B8A2-F49BB36B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A3E-1217-4CC0-88A9-0A915F82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4D2-B524-41DB-9B28-45CF7B156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429-ACDB-4AB0-9F55-21A44F0E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1CDE-A6B7-4D58-8BFE-AB28585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E77-4578-4CCC-8FC8-DB06CA05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5C4-C169-490B-8516-C6D15738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FBB-9EFB-46F6-B3DB-727E2A00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5909-0975-43FF-B767-201E546B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F0AC-C88B-4D79-A4E2-80C2A894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4721-FA44-4F9E-9E2F-A60C03CC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723-57FE-45C6-8F87-1B4B7A3E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4764D-2882-47DE-B96D-2F14947729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