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0026"/>
        <c:axId val="29426328"/>
      </c:barChart>
      <c:catAx>
        <c:axId val="1800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6328"/>
        <c:crosses val="autoZero"/>
        <c:auto val="1"/>
        <c:lblAlgn val="ctr"/>
        <c:lblOffset val="100"/>
        <c:noMultiLvlLbl val="0"/>
      </c:catAx>
      <c:valAx>
        <c:axId val="29426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0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59B-2188-4609-87C5-BA703C08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93C-BBAE-4778-8805-FC57D1F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8F9-9AE3-4421-8040-EC0C4DBC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B51-3B43-483F-9D8E-68181CAA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593-3012-452A-AD57-A0413EE4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53A-538C-48FC-8B79-A3EDB786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68B-1E5F-4F34-866D-D29D50D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822-8AF0-427C-B4C6-97E5273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9D1-4FBE-4476-8306-35278E39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22E-5FA8-4EF8-B485-6CDF7061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33F-CEAB-4905-A3DE-BD4C040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390-C1D3-422B-B8FB-016E458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A6FF-1AFF-4129-AD30-E8FA6B25B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