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351438"/>
        <c:axId val="80279378"/>
      </c:barChart>
      <c:catAx>
        <c:axId val="973514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79378"/>
        <c:crosses val="autoZero"/>
        <c:auto val="1"/>
        <c:lblAlgn val="ctr"/>
        <c:lblOffset val="100"/>
        <c:noMultiLvlLbl val="0"/>
      </c:catAx>
      <c:valAx>
        <c:axId val="80279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514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943-E497-4A3F-89E4-7CD38E73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F35-0A45-4B68-B27A-3F2B9CAA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8B0-1356-4E46-8488-58259A87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6E1-CB53-4712-8625-217DF2C3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BF8-3F88-40E6-8199-3ABAD4F2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B29-A9BA-4C99-A9CF-384C1D88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DF9-9B75-4376-97F3-16774E7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EC6-D2C3-4A70-8F48-675DE196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611-6EA4-4727-83B9-6B918C1D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765-13B3-4988-8342-69099DCF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43F-D3B4-4443-884D-9418541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234-7440-46BF-882D-33D2BF3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2EBD1-2961-4ABD-A0AD-D6131F2DC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