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99121"/>
        <c:axId val="99966446"/>
      </c:barChart>
      <c:catAx>
        <c:axId val="43199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66446"/>
        <c:crosses val="autoZero"/>
        <c:auto val="1"/>
        <c:lblAlgn val="ctr"/>
        <c:lblOffset val="100"/>
        <c:noMultiLvlLbl val="0"/>
      </c:catAx>
      <c:valAx>
        <c:axId val="99966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99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E7B-0FD4-4D75-9608-5330A5B1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430-C401-40F2-B923-0373BBF2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A26-219B-427B-8432-1820473F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BDB-6D68-48BE-9FF2-BC9EBF9D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509-CECE-4F56-A6E2-397E755D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135-E939-4993-AA7F-111A2B0A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253-D86A-40E5-A0D0-284B5AD9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9A0-7F8B-446F-ACAF-26364530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FB7-A69F-4323-BDA6-F67C6739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869-E9D6-425F-9F33-81711B04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B2E-0636-40D9-906C-BC14E4E9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A42-1239-4D89-8081-A555C08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959F3-7DE3-4547-A0DD-03825CFF89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