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25299"/>
        <c:axId val="178326"/>
      </c:barChart>
      <c:catAx>
        <c:axId val="600252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326"/>
        <c:crosses val="autoZero"/>
        <c:auto val="1"/>
        <c:lblAlgn val="ctr"/>
        <c:lblOffset val="100"/>
        <c:noMultiLvlLbl val="0"/>
      </c:catAx>
      <c:valAx>
        <c:axId val="178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252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4ED2-98CC-4FF3-8639-4645BC9B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821-FE91-4DA6-9344-AFBBDA55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21D-F1A4-47C6-A89B-71B0CA79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492-0B03-4186-BB11-AA8F5D90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A1B-D31E-41A4-AE98-4BC1AC2A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54A0-4021-45F7-BFE2-1AB377C1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0D6-7A94-453E-8616-3500D536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936A-5D7D-4C3E-81AF-3C8A2AB7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51F-BFA2-48B6-937C-80905BEB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1E8-A09B-401D-BB74-48329853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1C2C-DBC6-4B08-AFCA-BDC2DC64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F72-B402-404F-8F52-85C7D8D8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24FE6-4911-4BA1-A6CF-C122E5C1FD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