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90254"/>
        <c:axId val="76579716"/>
      </c:barChart>
      <c:catAx>
        <c:axId val="852902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79716"/>
        <c:crosses val="autoZero"/>
        <c:auto val="1"/>
        <c:lblAlgn val="ctr"/>
        <c:lblOffset val="100"/>
        <c:noMultiLvlLbl val="0"/>
      </c:catAx>
      <c:valAx>
        <c:axId val="765797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902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758-8E57-47C7-BB1E-9FBB4216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F0B-4A99-4DF8-A45F-9C00F0F2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13E-7664-4885-8B06-71A40497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C2F-7595-442D-8991-9D308333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0461-1EDE-4471-8E5C-63EF70D8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155-639C-4CB1-BFD3-FEF20CAB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F52A-2B63-4312-88F1-66E5C9B2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D92-7970-47C4-9B8D-28D545B7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9298-0364-4B46-B462-9899484F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A70-D43A-40D7-A449-4B2946CB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8D3D-944B-47BE-9828-09FEC269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3E08-3588-462D-88CA-86EBB677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E0543-4C78-4121-9F36-BA1BC390CD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