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470967"/>
        <c:axId val="85644481"/>
      </c:barChart>
      <c:catAx>
        <c:axId val="964709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644481"/>
        <c:crosses val="autoZero"/>
        <c:auto val="1"/>
        <c:lblAlgn val="ctr"/>
        <c:lblOffset val="100"/>
        <c:noMultiLvlLbl val="0"/>
      </c:catAx>
      <c:valAx>
        <c:axId val="856444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4709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1226-B699-4AC5-8641-A1D323A68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60CB-A19A-4A01-954E-D1F7FE01C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7BEA-5973-4D47-84D4-43AD60C7E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9C9B-97CF-4113-97E6-4CCECC849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C79D-EFAD-4E28-86D7-4A35766EA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A895-71B6-4E3C-ADC8-246B9D6CF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F599-9CB2-43E0-8A1D-56597409E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7A99-4158-4546-B9E4-0BED8C64A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111B-D2BC-480A-A041-4997ED567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30FA-694A-45AC-B25A-EFB7F5D3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ACEB-9541-4D78-A4DC-C4F54674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46AF-C743-49E1-A083-ED02FEEE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497327-82B9-48A1-93E8-D1BC0392C8C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