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92337"/>
        <c:axId val="56784963"/>
      </c:barChart>
      <c:catAx>
        <c:axId val="28792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4963"/>
        <c:crosses val="autoZero"/>
        <c:auto val="1"/>
        <c:lblAlgn val="ctr"/>
        <c:lblOffset val="100"/>
        <c:noMultiLvlLbl val="0"/>
      </c:catAx>
      <c:valAx>
        <c:axId val="56784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92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2B9-0CA7-4B58-9101-7C3FF521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D0A-2CB1-4FBE-91F3-61C2668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E44-D1EC-4731-B2BE-E95D2FA9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E0C-172C-4DF4-84C2-DB166D5F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306-4672-4F7E-935A-E6D81D2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264-E854-48D8-98FC-DB88183A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349-3E3F-4A90-B6C5-D1643DEB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895-B375-41F9-B2B0-23A68B1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9FF-395E-44A9-8DE1-32043B9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65E-A982-443B-8312-5BC10A9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076-AB09-4A28-9A1B-A2523F00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6A9-270A-4AEC-8BDC-DFC88135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412D1-3E28-44FF-9E95-67C7D9CB2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