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84287"/>
        <c:axId val="76462203"/>
      </c:barChart>
      <c:catAx>
        <c:axId val="48884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62203"/>
        <c:crosses val="autoZero"/>
        <c:auto val="1"/>
        <c:lblAlgn val="ctr"/>
        <c:lblOffset val="100"/>
        <c:noMultiLvlLbl val="0"/>
      </c:catAx>
      <c:valAx>
        <c:axId val="76462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84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2CB-35AB-4009-8AAC-38A6D335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564-9267-48C6-B58B-88AB285E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45D-79F0-432C-9CFD-B343D3B7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016-D943-47C9-AD40-E5DE6B2F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4EC-4DB1-47D0-A4BF-F89C6BB1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B16-2C9E-4342-A0E8-40D9828B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E00-5865-4F3F-9A82-27CAD150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1E6-7595-4964-8AC7-F19AACD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324-297F-48B3-BCA8-2D7DB64B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EB7-C7D3-462F-AC0E-FAD535BB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BFC-72F4-4A40-ABB6-1D56474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D2D-637B-4E3C-8D82-55CDD30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D2086-B527-4DC2-A171-8FE16C397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