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925399"/>
        <c:axId val="99024908"/>
      </c:barChart>
      <c:catAx>
        <c:axId val="729253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024908"/>
        <c:crosses val="autoZero"/>
        <c:auto val="1"/>
        <c:lblAlgn val="ctr"/>
        <c:lblOffset val="100"/>
        <c:noMultiLvlLbl val="0"/>
      </c:catAx>
      <c:valAx>
        <c:axId val="990249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253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3C5B-502E-46DC-B941-972F6B48E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B54A-D360-43BF-B06B-3552108A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521A-E371-40C3-8F9C-E7F32B3F8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6B08-4C54-41EA-B1B2-6FA1CD9BF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96CF-2C0F-4793-81A6-3AE6EEA2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A345-0139-4199-83C4-D69A3C80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89B7-D009-4C71-A2C1-DFD30529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F440-3154-4134-A1B8-97B613F7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7279-6A3B-4735-B895-C4557A4E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5D48-FCCE-46A2-9900-A37C5D28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3198-D87A-4E6D-BC7B-271ABBC6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1649-449D-4440-B0DA-19B5793C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E9444-D886-4432-A449-B9B1FE67FA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