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89121"/>
        <c:axId val="7274086"/>
      </c:barChart>
      <c:catAx>
        <c:axId val="56189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4086"/>
        <c:crosses val="autoZero"/>
        <c:auto val="1"/>
        <c:lblAlgn val="ctr"/>
        <c:lblOffset val="100"/>
        <c:noMultiLvlLbl val="0"/>
      </c:catAx>
      <c:valAx>
        <c:axId val="7274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89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75B-DB84-4A2C-8B1B-99C5643C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B4E-FECB-461D-903B-BCD1CC0C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541-B654-4EDF-B077-8E304937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74E-B3E1-4A11-8248-6A122460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F0E-6D54-4A04-8D02-88E615B6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995-2525-4F97-B0C5-92CFD49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9B5-E0C5-443F-8100-58FA41EC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051-DC36-4924-B6AB-BE220A7F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8E8-B947-4F3A-89C4-48190C9D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255-911F-447E-90C9-09F5EB37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794-EC61-4799-814B-B4354D09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A11-2CFE-49A7-B28E-596CE4C2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440A-0DC6-479B-A8EF-BDECE3E026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