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3436"/>
        <c:axId val="77552236"/>
      </c:barChart>
      <c:catAx>
        <c:axId val="12383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52236"/>
        <c:crosses val="autoZero"/>
        <c:auto val="1"/>
        <c:lblAlgn val="ctr"/>
        <c:lblOffset val="100"/>
        <c:noMultiLvlLbl val="0"/>
      </c:catAx>
      <c:valAx>
        <c:axId val="77552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3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E1A-89C2-467E-A2F0-C7AE2BAB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9D2-17D4-4C82-9E29-DE739C4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2E2-EC97-473C-8F3A-FEE3A1B1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F77-9677-48E4-97B4-E3697AE3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BFF-0297-4DCD-A373-8424B77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20D-C58A-4239-8B38-5A8AC5F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EB5-6859-4AAF-A22A-DF0E1E8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646-F033-48A6-9183-3037B4F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9E7-3D91-4D4B-A76E-C421D044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7C7-7484-4C31-A3C4-625D4D3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426-48C0-4A3C-B4A3-6A39680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79B-5D4C-4E0D-BC17-B277AC99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673F-92B9-49F3-833C-8AEA9D7F47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