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32805"/>
        <c:axId val="21314122"/>
      </c:barChart>
      <c:catAx>
        <c:axId val="75032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14122"/>
        <c:crosses val="autoZero"/>
        <c:auto val="1"/>
        <c:lblAlgn val="ctr"/>
        <c:lblOffset val="100"/>
        <c:noMultiLvlLbl val="0"/>
      </c:catAx>
      <c:valAx>
        <c:axId val="21314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32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EBA-DEC7-4547-B6E7-D5C4E561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F48-6BE3-462D-8421-C6449A26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F3D4-F9AB-4B21-A20D-A93FCA1D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890-5222-4C58-B3E3-18DA38A0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262-427A-48B3-A000-4DD1F99B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9BC0-A0B7-46C8-8B82-8D7EDFBC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D22-4010-42B9-B1D3-D5502128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4B5-B85C-4856-A727-C1703C7C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6BA8-377C-4D9F-9ABC-62D1A09E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BA0C-67BA-40A2-9862-F3D78985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504D-3C45-43A6-8D7B-D9F5088D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727E-A395-4FE5-A8CD-C55ACFE6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E2C0C-3844-413A-BCC3-6BF1477D5C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