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775"/>
        <c:axId val="5397746"/>
      </c:barChart>
      <c:catAx>
        <c:axId val="53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746"/>
        <c:crosses val="autoZero"/>
        <c:auto val="1"/>
        <c:lblAlgn val="ctr"/>
        <c:lblOffset val="100"/>
        <c:noMultiLvlLbl val="0"/>
      </c:catAx>
      <c:valAx>
        <c:axId val="5397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870-2668-4807-8534-65D5D628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FE6-D3AB-4489-BD41-A38A65B6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FA6-C4F2-48DF-A0B8-A37E5156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88B-B06C-45D8-8DDA-A5AF3E9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74F-EEF2-483B-9646-FB0D078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79F-5F43-4A10-BE40-558B314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7BC-7F13-4887-8255-A3CA2D5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8BC-D46C-47AD-BE3E-A0A0588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F25-8B86-457D-81DF-1209D6DA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7FC-3D6A-4210-ACFE-E341AB9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973-9C7D-4086-9F30-27FFBAE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6CE-7410-4C23-BA23-8C777BD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5838-1945-448A-97F9-AE1059406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