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754728"/>
        <c:axId val="59981941"/>
      </c:barChart>
      <c:catAx>
        <c:axId val="427547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81941"/>
        <c:crosses val="autoZero"/>
        <c:auto val="1"/>
        <c:lblAlgn val="ctr"/>
        <c:lblOffset val="100"/>
        <c:noMultiLvlLbl val="0"/>
      </c:catAx>
      <c:valAx>
        <c:axId val="599819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547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0032-D61C-4984-9428-76881B8F3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859A-C418-46C8-849F-E795800A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6E8C-4C61-46AA-AD4E-35FD7820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6F49-D433-4BDD-BA9B-A116A9EE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2378-575A-47AC-96E9-EA2320AD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8938-18EE-4224-A841-FC53EA38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06FF-AAB8-4CC8-9985-35460995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B0D6-815C-4AF8-8D95-B80B29B6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E5F6-B993-4409-959F-0EF1BB8D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1145-7A28-4F3C-9486-FD53388C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B363-5314-4369-BBE1-43EFBE96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08F3-D7A3-4289-9C5F-DB1B2A05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5933C-EAC4-4831-B13E-DE19D4E62A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