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24375"/>
        <c:axId val="81261634"/>
      </c:barChart>
      <c:catAx>
        <c:axId val="87224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61634"/>
        <c:crosses val="autoZero"/>
        <c:auto val="1"/>
        <c:lblAlgn val="ctr"/>
        <c:lblOffset val="100"/>
        <c:noMultiLvlLbl val="0"/>
      </c:catAx>
      <c:valAx>
        <c:axId val="81261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4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B69-F479-43BD-A512-EB6A28B7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EA6-906E-46E7-82DF-1A55FA74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6F9-6607-49E7-B067-71E63160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4B6-F1AC-43D3-B038-5B038E16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A6E-34A4-4E57-9E58-25565148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3E4-FFF3-4070-853B-7AF39F53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44D-81D5-4B37-BFE4-FA57C08E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468-970D-4BD2-A2C7-30DD916B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E75-CA1E-465D-B8BA-5D3A58EF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218-47DF-4A8C-A7B2-653B0AE6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BF4-0ADD-4B89-95DB-69F2E37A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0DA-A8B5-470E-8CD9-22B59576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ED24D-181C-41C3-BE78-648CF3DF9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