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711285"/>
        <c:axId val="71108525"/>
      </c:barChart>
      <c:catAx>
        <c:axId val="727112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08525"/>
        <c:crosses val="autoZero"/>
        <c:auto val="1"/>
        <c:lblAlgn val="ctr"/>
        <c:lblOffset val="100"/>
        <c:noMultiLvlLbl val="0"/>
      </c:catAx>
      <c:valAx>
        <c:axId val="711085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112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5793-CA1D-4511-B72E-369E7D637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0181-5926-4E23-A3B8-F1E212FB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EB8C-8FB2-48B9-99B5-9628BACE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FB23-E4BB-4FA7-9265-A46B5C19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C615-6160-43AD-B84C-9882DF32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DE93-A920-4E1D-981E-90FE9B14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C852-006D-464C-8622-075AA5DE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9565-B2CA-41FB-901F-8506F51D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D9ED-3061-4FC3-87BB-82863B8C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F96F-20E2-4574-902F-F4C7F326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DABE-C0F6-4303-94AD-E1A40E70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E539-9ECD-476A-BB5B-31CEA564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327C1-31A0-4255-8BAB-F49B274861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