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98F0D4-EF0C-4499-A514-3B42A7682A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A3BB2E-8EEC-4BBB-810D-580CCF9A9E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041647-F648-400D-BF1E-DDE06A11BA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A3F5A1-1BAE-4B39-9AF4-8D3CB9C8DC4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F6EDC0-E3A3-4F9C-ACA9-25CD7263C47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F37E3A-0DAF-4C65-BBCF-5F2F597A1B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2A14C3-31D1-4AAC-B993-B4430065D4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AB428D-2812-4EAE-BBE2-D45D49BF3A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6FC331-A564-442B-AF66-43C21A12D6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1A7159-2646-43FA-B1E1-5FC2CAD369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A0D2BC-F145-433E-9324-FDED750EBF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E422FB-C2BC-4C01-ABE0-10286BF464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A6E71-4282-4687-8E6C-A5A75D65C8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317520" y="2781360"/>
            <a:ext cx="380880" cy="609120"/>
            <a:chOff x="317520" y="27813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412560" y="27813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507960" y="29552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6504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0796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17520" y="30859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295280" y="2590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33440" y="266688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95560" y="28321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765440" y="3368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86080" y="4102200"/>
            <a:ext cx="358920" cy="72216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314280" y="4116240"/>
            <a:ext cx="380880" cy="609840"/>
            <a:chOff x="314280" y="41162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409320" y="41162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04720" y="42904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6180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0472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14280" y="44211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17600" y="3886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17600" y="39625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895560" y="40892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765440" y="46623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286080" y="28195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666880" y="3048120"/>
            <a:ext cx="58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92440" y="4343400"/>
            <a:ext cx="520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49160" y="30225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8400" y="4343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410080" y="33670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48240" y="3390840"/>
            <a:ext cx="12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00400" y="25146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67160" y="49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3276720" y="5487840"/>
            <a:ext cx="380880" cy="609840"/>
            <a:chOff x="3276720" y="5487840"/>
            <a:chExt cx="380880" cy="609840"/>
          </a:xfrm>
        </p:grpSpPr>
        <p:sp>
          <p:nvSpPr>
            <p:cNvPr id="71" name=""/>
            <p:cNvSpPr/>
            <p:nvPr/>
          </p:nvSpPr>
          <p:spPr>
            <a:xfrm>
              <a:off x="3371760" y="54878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67160" y="56620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332424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6716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276720" y="5792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Document"/>
          <p:cNvSpPr/>
          <p:nvPr/>
        </p:nvSpPr>
        <p:spPr>
          <a:xfrm>
            <a:off x="1714680" y="539604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13080" y="5689440"/>
            <a:ext cx="812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76520" y="54594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477120" y="52722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400800" y="52722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683160" y="5689080"/>
            <a:ext cx="11937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9880" y="25290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876920" y="51195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19920" y="54626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48320" y="3124080"/>
            <a:ext cx="2895480" cy="3367080"/>
          </a:xfrm>
          <a:custGeom>
            <a:avLst/>
            <a:gdLst>
              <a:gd name="textAreaLeft" fmla="*/ 141120 w 2895480"/>
              <a:gd name="textAreaRight" fmla="*/ 2754360 w 289548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8">
                <a:moveTo>
                  <a:pt x="3600" y="0"/>
                </a:moveTo>
                <a:arcTo wR="3600" hR="3600" stAng="16200000" swAng="-5400000"/>
                <a:lnTo>
                  <a:pt x="0" y="21518"/>
                </a:lnTo>
                <a:arcTo wR="3600" hR="3600" stAng="10800000" swAng="-5400000"/>
                <a:lnTo>
                  <a:pt x="18000" y="251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829480" y="61466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51228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6324480" y="4343400"/>
            <a:ext cx="381240" cy="609120"/>
            <a:chOff x="6324480" y="4343400"/>
            <a:chExt cx="381240" cy="609120"/>
          </a:xfrm>
        </p:grpSpPr>
        <p:sp>
          <p:nvSpPr>
            <p:cNvPr id="89" name=""/>
            <p:cNvSpPr/>
            <p:nvPr/>
          </p:nvSpPr>
          <p:spPr>
            <a:xfrm>
              <a:off x="6419880" y="43434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514920" y="45172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637164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51492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24480" y="46479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 flipH="1" flipV="1">
            <a:off x="6108480" y="4127040"/>
            <a:ext cx="215640" cy="368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07040" y="561492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42080" y="386064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2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20840" y="4738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673520" y="6172200"/>
            <a:ext cx="2832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76920" y="5653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3900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781680" y="3962520"/>
            <a:ext cx="1295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4038480"/>
            <a:ext cx="129564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22096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33920" y="22096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5116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6064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5116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6064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434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ocument"/>
          <p:cNvSpPr/>
          <p:nvPr/>
        </p:nvSpPr>
        <p:spPr>
          <a:xfrm>
            <a:off x="6019920" y="3049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81760" y="39384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ocument"/>
          <p:cNvSpPr/>
          <p:nvPr/>
        </p:nvSpPr>
        <p:spPr>
          <a:xfrm>
            <a:off x="6095880" y="21337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58080" y="2158920"/>
            <a:ext cx="761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’s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934320" y="380880"/>
            <a:ext cx="380880" cy="609840"/>
            <a:chOff x="6934320" y="380880"/>
            <a:chExt cx="380880" cy="609840"/>
          </a:xfrm>
        </p:grpSpPr>
        <p:sp>
          <p:nvSpPr>
            <p:cNvPr id="116" name=""/>
            <p:cNvSpPr/>
            <p:nvPr/>
          </p:nvSpPr>
          <p:spPr>
            <a:xfrm>
              <a:off x="7029360" y="380880"/>
              <a:ext cx="190080" cy="174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124760" y="5551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698184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12476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934320" y="6858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6934320" y="2209680"/>
            <a:ext cx="380880" cy="609840"/>
            <a:chOff x="6934320" y="2209680"/>
            <a:chExt cx="380880" cy="609840"/>
          </a:xfrm>
        </p:grpSpPr>
        <p:sp>
          <p:nvSpPr>
            <p:cNvPr id="122" name=""/>
            <p:cNvSpPr/>
            <p:nvPr/>
          </p:nvSpPr>
          <p:spPr>
            <a:xfrm>
              <a:off x="702936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12476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69818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2476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93432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6400800" y="28321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10280" y="1066680"/>
            <a:ext cx="228600" cy="1067040"/>
          </a:xfrm>
          <a:prstGeom prst="upDownArrow">
            <a:avLst>
              <a:gd name="adj1" fmla="val 50000"/>
              <a:gd name="adj2" fmla="val 929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562720" y="143208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718320" y="4774680"/>
            <a:ext cx="139680" cy="48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781680" y="36576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320" y="68580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Secured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70880" y="1652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2286000"/>
            <a:ext cx="15238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lue or location is given as 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2971800"/>
            <a:ext cx="0" cy="8002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17640" y="6197760"/>
            <a:ext cx="152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867280" y="2819520"/>
            <a:ext cx="533520" cy="22860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692760" y="1676520"/>
            <a:ext cx="36828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Document"/>
          <p:cNvSpPr/>
          <p:nvPr/>
        </p:nvSpPr>
        <p:spPr>
          <a:xfrm>
            <a:off x="8077320" y="510552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051760" y="5105520"/>
            <a:ext cx="7621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Document"/>
          <p:cNvSpPr/>
          <p:nvPr/>
        </p:nvSpPr>
        <p:spPr>
          <a:xfrm>
            <a:off x="8077320" y="3200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039160" y="3276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Document"/>
          <p:cNvSpPr/>
          <p:nvPr/>
        </p:nvSpPr>
        <p:spPr>
          <a:xfrm>
            <a:off x="8077320" y="41911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039160" y="426708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94440" y="152280"/>
            <a:ext cx="3504960" cy="1219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59Z</dcterms:modified>
  <cp:revision>154</cp:revision>
  <dc:subject/>
  <dc:title>Slide 1</dc:title>
</cp:coreProperties>
</file>