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D50EB380-1EE9-49E0-B107-575BE06E61F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191C323-C5FA-4DBC-9381-192A341769CE}"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79991A9-3723-417A-98CD-3503DBC3D68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3B787B-6C26-4138-8B3B-DB317EFDE15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EDA69A-11AA-4957-9948-DCBF680DFFA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D7C28F-DD10-48F2-AB50-BE8689BD492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4F725147-1B6A-41C1-BFBB-CCB1796DC43F}"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5EAD7B-17C4-4EB7-91CF-70CCDDC1525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D93DD50A-4036-41A1-B4F8-67897A1577A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6C6F603-975A-4DBF-AE20-D77733D4D0E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66C29E2-CC07-4F03-B299-E8638A22119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A18E091-0286-41EE-A63A-36ED17846F3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0B8C96-CA82-4A05-8286-6ADFBF3C29C7}"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69DD5E0E-AC85-44E7-BBE4-E859ED5461F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DCD49CE1-7B0D-4BA8-BBD9-0B6E3F03C570}"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B53D244A-D598-49C4-A6EC-1461E780A4C8}"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C7239B-BCFD-4D42-AA30-C34E804C08F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B988457-7A84-4968-B283-75C929C71F52}"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32FFA28-A4FA-467C-BC88-7D2F928D6E9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2B8AA7EC-0E40-4799-8214-9603AE4327B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7335D82-84AE-4BF8-98F3-444AF14924C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2A6A6B4-8A5B-4FB9-B410-987E622611A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4E80C75-B93F-430E-86CE-763D8CB3003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4C3230BC-F469-4F6B-883D-963F08220BC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A38FB8E-13DA-4296-8971-AC9FF7E3A1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3A816735-AD1E-4424-A12F-1C545426E8C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04A9E5F-3143-40DB-AD02-D6F92F07A6A9}"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AD6966-0E92-4FD0-8998-357F46BE21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C56C08E7-5C6A-45D4-B2CF-E0718CA33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BF8EBD-EA4E-4C86-B735-6FD128D71E9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45D157-AC70-4BB7-9067-974525D0D4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2F89B5-1141-4707-B772-05F74F7AB0C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5006AD97-2A8A-4201-8E30-049F29CEEB11}"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2880BB4-1F5D-4A8E-BD35-6A1DC7053D3D}"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E46AB9B-C35E-4467-AFDE-B60FD04186B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09395F-1CAF-4575-B701-DF2E43E026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251EDFD-F2B8-406A-A300-C30CA5ADE3DA}"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4716315-0842-4C21-BB4E-ADCE906A18B4}"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9E93279-7491-4C84-9F72-78EEEC23E461}"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9A1A981-B38E-4245-B031-C82730A39574}"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4F859BB-23EA-4CF9-9680-DC4A2D54783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5DAEBC3-99B7-4B72-8B59-C354A5A3067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3B85A080-1A40-4BCE-A224-9B962365A7E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6D366F5B-408B-4674-8F6D-E99EC6959E08}"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E0C67926-97D9-45D2-9E97-4D999E9E336F}"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03924BFD-D15E-41E4-96B0-AFCAB96CBDF4}"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033EA46-59EB-40A5-96A5-746156B1F63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0409C54E-F0C2-4CD2-9742-09554C3AC14E}"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4F79923-EFC3-45D3-8E36-802C5378F01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E20D0ADF-AE74-4D92-B284-9A9D9F67EF8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A59C47C-7753-4AEC-97F8-F88DB92BA7ED}"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F47BD0E6-D4D3-4F9F-8D1B-254284EE0589}"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FD883097-E2FE-4A8B-B287-5458672C618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757A2AC0-6FB4-4B6A-86D9-F4C37F5D2308}"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DE1DAEF-5239-49C4-9479-2CF150B857A9}"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1E03C82-850E-4024-9D02-44DD20946258}"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ED1001DC-5068-4CC5-BC58-08CC29B3153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E98ED5D-4E14-4140-9A7D-DD2BE011F1B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29EA0468-6855-4743-97E9-7F637EC4AAF6}"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5A7E0555-41D1-4D5A-9937-F4A879D6DAC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481E605E-1871-4B18-B311-CECCCAED800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B17C5B-A79A-4413-AA56-CB11096B3BB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B06EFC1-44F9-4993-9EFE-BF0ECFE918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9F919D68-FB1F-432D-831C-5F0879F51952}"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F2543BF7-BA20-4836-B636-220096F2C8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01181CE-C48F-4BA0-A244-D9BD1E570DC6}"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CDBAB5F-1D1E-42AC-A630-54F36568F217}"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356B20FD-78DF-440D-A08D-EA4FA1133228}"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52BA5F1-D632-46B2-B4BE-7BDBC6D7D0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2FB93B87-45D3-4601-A42A-27674171DD1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262290D3-41B4-4F21-9D45-620BC45FE0B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23B74F5-93D7-4252-B972-082CF9EC893D}"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CF2E847-8C35-443B-A605-D8CDA0B0B15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9CC5E21-6A4F-400F-B573-F73DC2A4C5F8}"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F999DBE-67D8-47A2-AB3C-CFBF07587EF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240ABDCA-35A0-46CD-80C0-4DE036288F09}"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CF9CB925-8A47-4BFC-92EA-3E7D4E65564D}"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6BA69C6F-8E15-495F-9DC5-5F4603524A8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423177DB-4FCA-4055-B283-EBA4987C04E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D2ECC3-0617-4FE9-B36E-6E1F4ECB71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0041FD-0914-4731-B78E-868186B09B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1E37774-3218-4628-BA7C-790BDF1FD66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493CDB9-B79E-4E86-8D54-3F17EA92FB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75ECD6C-CF24-4DEE-96EE-638EA99BB75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628F4F0-C490-4B1D-98C2-1EF5825DEDE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48B02C82-10C1-437B-986B-633DA06414C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09A0CE54-8475-4155-A6D8-C609B7113548}"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046A841-1E72-4981-9644-1CFA2A0FA8A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A4CA76A0-310D-46E3-95F2-40CBDBF5C38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74F32EC2-CD99-4AE3-8486-F4F0BF10AB9F}"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4DA367B-0D09-4893-9953-704F37DEC291}"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6054614-9147-497C-AC87-B4A4D25C4D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20CA79CF-17DD-4E42-B6FE-40F60BBEF5A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C9F1E2-4AEE-4BA9-B494-E5A355E52871}"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1AC44EE-0201-4720-92D1-61802A1E6F2B}"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4C821664-5A31-4DD8-9089-3D124994FB3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01587BB-BE49-4261-A465-1D6DAB438BE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CEADAA3D-0426-4BA7-815B-0A8EFD9BCC75}"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2697C09-6243-4BA9-963D-3208BD35FE76}"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08148A91-535C-4350-B712-AC76E6079FB3}"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3B296AD3-09A3-4B95-ACFA-230473C5530D}"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CF6B9531-1E6F-45C4-9CDC-A30580DB606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02AABA6-C3D7-4413-8F0A-226FA9346F9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56B5DEA-5DA2-4420-86B5-2645F26B45B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EF3FC9E-F7EA-4C5C-8A84-93907961CC0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F8FBD06-6570-4592-A6A2-DA8EE807032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83C812E-99BD-45CC-9665-104B33705DE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CCBD826-6936-4C4C-BC6C-9725318C651D}"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4CF0D3C-0934-41F4-A022-15C3ABEBDD5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0379492-7541-4B9D-96B3-675996A2DD6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99F098A8-B997-4849-B530-E24F6F9ACFA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F4866078-4E44-4453-9763-17BA75EC0642}"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53B7F1C-0D29-450E-8DF7-36C0B106092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C665F27-17A4-4017-AF1C-CADC6E0FB4E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5B4A231D-C362-4DC4-95C4-421CA3574BA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3822130C-8495-4F1E-8E12-49EEF0F412D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211F9EC5-3E3C-4081-80CE-F715F29EF553}"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7C5EAEA3-B4F7-4E69-A884-882821EF362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27F2E643-AAEF-4CB4-A71D-2EDDF7CBA92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E4950F-02BA-4568-A1C9-6911C6BC5A00}"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AE6623C-46C5-478A-8494-4F84306020E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1281060-4764-4CC4-9C9B-F8B7CEAFC78E}"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2A8EA52-7F2A-4A6B-8E5F-4F17353D971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9CF9D5A6-7CD1-42CC-AB89-14043749013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A1EDD84-0CB1-4B88-9E45-E995347592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EFAEF884-85D9-4245-B37D-A809CEFCC297}"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C0D06F3-9CF4-4017-82E1-93F9F30291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66A29F46-8037-4547-9083-D0C61BF40C8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44AF4B7-A1A2-45FE-9CAF-7151BEBD429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E0B8DBC0-5321-4ACB-B234-5AE4B5A2384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E7E9BC-B726-4D4A-A1B7-FF49955D76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E0CE3E2-EB67-45BA-B7E1-CD5F54CF309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174FF36F-BA9A-4991-9FEB-F9E80FF4D87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0566704-1B44-4189-A2C1-CC70756661F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75A0971-F4A8-48D7-B9A5-ED601B66EC2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AC1553E-3920-4554-9396-ACD8EBFA123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43A5628A-43AE-4240-A105-07283102C73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4A17A51-E0DB-45C9-8367-220B1903285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B485C6F3-2351-474E-875B-8E8D986EFFA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66086C8F-ADF3-49B5-AACE-60CCD2CDE46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840535E6-2F8A-4B30-B176-FE2F714C9E32}"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ECEEBC-46A3-4259-98C3-2C4EFB1937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D63DE8B-CC6A-4394-AC2C-934B36C2D0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C8199DD-6299-4936-977E-B2069B7756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7A99F8-AEE0-4518-ACF0-C51B416992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491A635-00BB-4BD7-8ED0-4B18E738D73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DC629806-8977-49F0-B25D-F124D0BEF3F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7F800C0-187D-4EB8-A364-DA7C82EA6FB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200F04E-4ECD-428E-956B-68BD35B8CC3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CBBA848-29D5-4344-AAE5-42F908F06BB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61E962A-6013-4788-B4EF-59FE48E65B0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4C21F7-D4F9-4CC8-B822-37B7A41AFF1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E0EF3-88D2-4A67-BF1C-2A76197CF1C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CAC1B8F9-0013-4E38-864A-F2F381723477}"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D0FA5308-DB78-476A-A8AE-9BF9C37B4D7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CAE0F9B-40BF-488C-A182-B0FE3A421193}"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15EA3CE-1E34-46DD-8304-E9ED986EF94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F4AB255-4C13-4D57-982D-D302570AAF2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37D9500-F919-42EB-8FE6-6FCC1835D6B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28324A31-61B7-4B7E-A04F-F36AF5C3FFD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C0E38D0-E0EA-4BEB-AF3E-98209844803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C14008C-AF24-447C-9FA1-70924341278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FAF6667-C8E7-4259-9F50-0AA451B5EB2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6E2109-F1B4-46C7-B25A-1F316616C6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74FB53C-6306-4462-B2FE-A410CABCEF0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88A8AA9A-68BB-483A-B4C2-F8A4785E367F}"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B754692-B1E4-4151-9AA2-E3330998F29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EE60DA8-BB90-4123-A98F-AB1ECB740D9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895770A-1DC2-4556-883F-D66505D1C58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ECFA4D3E-7E6D-4AF0-8B42-84D5266321F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F8A75E-FE5C-4520-8B8E-BB8AE0A5CB4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446C7916-0976-4652-978E-804F19CB84A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746F478-91E9-4C36-828C-C94389FB260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A626667-1476-4264-84C9-31A0F9D0273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FE97F6-9155-4CF1-B429-5FE1CADB7C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F95402B-D2A0-4C48-B8DB-325585FDD84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B8329D4-DFDC-47BC-A684-2443BE49A0B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F7BF0BCA-FA5D-4886-8704-2BE8183E9E5C}"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48DD9B6A-D464-498F-9A04-2AE3AA8833B0}"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1EE806B4-1A1C-4E81-A05E-C91CE894DABD}"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4D099900-AD1C-4B9F-BC5C-E571AC3AB237}"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CC2013C-8AE7-46BA-94BC-73E05593821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96C53A7-3123-4466-9CD3-5FBDF957600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671B5D0-D0C8-4651-AB1F-F162D6CA143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4B06FBB-3627-43A2-A920-0E75BC16ABB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41A5F5-B614-4028-96FF-303F9910C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B72FE755-C5C7-4397-9F0D-1D113CD561D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7023983-FDBB-4F51-91D7-D83533B1D3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FDE7778-0EA0-4BFE-AF52-68FA1C15734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531C9C3-E1D2-4ED7-8A01-03F28701AA7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6CEDF59-F22F-4DF6-B506-BA2DEF547EE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947ABC3-6FC4-4C26-904A-06AC365FB34B}"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E197FEE-A5F8-4F67-B5CD-00E8C1C146A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8E15829-C9D6-4735-AFC2-CD13569545E5}"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E62596F-41C1-492B-8606-8CCD6B74180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D4F36FB-99B8-4355-99F2-E430A01A3BE4}"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334B7D81-AF09-4089-B490-00FD9F4AE770}"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A3436DE-F535-445C-A275-B3133175AF3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4819E2A-F0E1-49B6-8253-F7081806CD9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098BE9D-5C13-4D9B-B537-1FF36F74886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1A321FB-AA01-476D-B60F-6A52796409A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E317F21-055B-4A83-AE18-D2F660CC94C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12FD024-5C93-46F4-88D1-7DD43D41BD7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9E3FBB4-8B66-4C02-A42A-9107E0325C6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43D32CF-2FD6-430D-A008-5B04F984079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D1AF2F5-014B-478E-BA43-26B20F1623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1211651-8A5F-481D-9844-C316D0A7B92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194EBAA-1E48-426A-A095-2745483E21A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05C1533-554D-4A63-8553-8E5F18681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6A655C4-33F8-4D31-ABB0-319351A73C9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CAEA0B-E236-4FBD-B064-7F72A5BFB8B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3327FAD-2B8C-48BC-95E7-8688098E0C8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