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69023D-4972-47D6-A325-FAC6E65212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92BF6C-A764-498D-AE21-87B66D4B1C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A1E757-69E7-4D60-A56E-E981F2B49E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76493D-54E7-4401-B3AF-DF5F5A0F88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F0249F5-64B1-4C52-A36B-7807EF5429F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876B42-6E86-4287-B840-7D1AEE4817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3EDB61-402B-466E-A5FB-6C94E0BE98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E58FA9-BDF5-4844-AC92-F0D1D0CAC8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5F47C7-BFCD-44DA-A71A-6219D8DBF1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5041D1-8A18-4B20-885E-75E57495D8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5DCC34-FC71-4B44-A154-79C51B484F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14CEEF-74F1-46FD-8060-D8228BDE80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A728D8-87F4-40C6-B904-506A45D802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58257F-631E-46EC-BDE8-C64A7B8ED2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FA7D9B-B024-4052-9055-BD41CB8DE3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1722118-41D4-439A-B1FF-C8CBE122EA0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C839636-D15C-4A82-9F9D-D954B2B9570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CAC2E5-1254-4578-A0BA-E35F39A1C0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320EA5-589C-4F60-8B46-403A3BA1BD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3BEAE6-B693-47BD-B36C-98734EDD39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C5F464-E3AE-431F-A78B-69C5694949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956373-FD15-41BA-9AA0-CBDB834B45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A00F10-EEA0-405F-8C92-365F8A4FB4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0A5E85-7CB8-443B-A114-B61CAFE1E4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F02B34-79CE-4CE5-8325-E38043E738F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C35FBC-0982-47C7-94A8-79FDEF73C88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E2BF2D2-4828-4DE0-9DF0-A7C27BA85C5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F20ADA3-0FE4-4DF1-973E-8A6D80E9042F}"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935B2B-CF14-4F78-984C-C587DBBCA454}"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096954-A98E-486B-B0F7-EE4CE0F00D8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96A1F8-DA83-4B18-9380-80EA2D17A3E7}"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4CD63A-CFA1-458D-83D8-0FC0BA18A862}"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06801D-F930-4BB5-A293-608E266D14D0}"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BAC3E8-5861-40E3-A155-72B50B3039A8}"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9A2073-C93B-4AFF-9954-D3A2291D2F0D}"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37EFB0-BDC6-4E10-A2BC-F52A0AC99A7E}"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E12331-7E55-42E2-B791-0B0FCAD5D4F2}"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F5F905-8780-4B22-979E-619A68C0DC8B}"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24AD16-EC00-44DD-96B5-7DDD4E51DA57}"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B86F6D-0282-42EB-BAFF-4EFFDF4562F5}"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3A3EB5-0165-4AF2-8C76-AB783B8D905E}"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68DCB3-987B-4171-938B-716FF1437892}"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E7002A-B763-4ECE-853A-2F528137B4D8}"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CDE1F1-BF0B-4DD9-94A9-117FD5B17C63}"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0CAFE9-CFF2-4526-B7EC-AF6010E95052}"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7419DA-1A88-4627-B174-CA28AB50639B}"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62E79D-86E0-4820-84E6-A96417EB077B}"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431AAB-B9CA-4773-9325-93A57C44208A}"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95930C-46B1-4408-ABBB-A1067152D206}"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022809-FBC2-4DE2-9076-A5570BE74190}"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445C80-590E-4CB9-960A-C5523CF076DE}"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F5B1F7-9E47-492C-A967-E21759AFD11E}"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6CCA04-26A1-4368-90B6-98AB68409038}"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110B807-BB27-4CC9-8120-37C3B3BD15D1}"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2AA4FF-0A81-489B-A0F8-A6B523F90CD2}"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34D439-E7F1-49AB-B6E6-82ACB4FEA3FB}"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4ABD63-8740-4D49-A07C-9EC27FF765CA}"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A68E60-F706-4DFF-A9AB-38742190205E}"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4D20F5-77B1-45EC-B0DD-74FAAC724FE8}"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2A570B-8E50-4D6F-B4A6-8EF976D2ADB1}"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EAD46C-D74F-4B06-99F4-CDF1A51EBC83}"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B8FB89-D28F-4101-A3F3-EED01EBCC720}"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D1280C-CCC6-4AA4-94D5-04A7D7F818D7}"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549AFB-1EFD-4738-9715-4BD7B0D6D373}"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AE51A3-445E-426A-B20F-F8A624A32F67}"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85A328-2533-4B2A-B0D6-7BC5E86E5B36}"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F41A71-2966-4FEB-ADA4-4B9AD2B5B17F}"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382AB0-9DE2-4399-8E23-2C91848BFD06}"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5EAAC8-014C-4D96-B46D-70AC06B104A5}"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8B21E6-2EE5-4C8D-B3E2-618232B56209}"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9C6742-FAB6-429D-B355-89DF7F7F6EC1}"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1ECF90-B046-4E73-9CC7-72832FFE8ACB}"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579C62-05C2-41B9-A8E2-4E279A6946A9}"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C050B0-1338-4008-90CD-8E4678E9143E}"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33A6011-6E7D-448A-90A0-63F0E0179EC4}"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8C5422-9AA1-4213-A374-8E86E7D24039}"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21BBD6-63C0-482E-A64F-435643C7B795}"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58E0890-A725-41F4-A283-7CE933177EFD}"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17DF32-553D-4270-9D32-A0F0526C850B}"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BDEC10-547C-4B8F-AC33-F598CFD524C3}"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92ABE4-90A5-49E4-B3C2-1C8A32AA8BAD}"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689B2A-961A-43EA-99C4-7C5D70D8DF72}"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85AEBB-9660-46A2-9088-882D111369E1}"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13CBDC-5169-4B6E-8CBD-D6F27D47E6F0}"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76FD3C-D837-472C-B21A-82C1A325E4B8}"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DF6125B-7239-4D8D-8B0F-542A27D61696}"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5EFF5D-3436-499F-BCB3-A1D70F818E1B}"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4E6E1A-5F0A-4561-9E12-6DADEE9909D7}"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9CBA82-F3D0-4233-80D7-5E1F2685D676}"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9954C8-00D1-43B3-A93A-7A1790B5D45E}"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4B95BF-497B-4712-92AB-39FFACF94BE4}"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8D8B1D9-0447-475E-9386-BE02196708D7}"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740D12-F7D2-470A-9751-5840F033220E}"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7C9AD0-7768-43E2-8F40-0DC4CDF1781E}"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B443C4-BFE3-4D8A-A7D0-A782B19376D5}"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D85FC8-3F40-478F-9C8B-FDA06647889F}"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4B1F61C-03F2-4B98-9509-ABCAC17DAEC1}"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61A74C-C677-4CC4-BC53-98DCEB251730}"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CF1019-EAE1-4584-9A56-33AB0E589DA6}"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A64781-E819-4B05-97BF-DB96165B546D}"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6C92A3-6A42-465E-8359-9EDAB6051934}"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085C32-89BB-4156-AB52-CAEBD281C959}"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FD692C-4639-4F44-8918-C9EC0E19B223}"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36A1E12-2F25-4BC8-B60D-69CD93571F5B}"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AA5EEF-55B3-4DD0-AD17-CBAB09D9DAE9}"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2002D0-D4C6-4354-A8E8-99A8F73C838C}"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2E4A8B-F352-492E-8E39-A1FC7B8694B0}"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C5FBDBD-0DCD-45D3-862E-7AE71BB74D77}"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F82969-9B8E-4637-A462-0999216C08D4}"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7AD866B-F461-445B-B6FD-8741C27EAB1F}"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28373C-99BF-4B06-B8D6-6C8813E83B90}"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94E382-936A-4A62-990E-954369C485E6}"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DF9521-F65B-4724-BA81-442C58CA3785}"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51B880-232E-47A1-B96C-96958D3B838C}"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964B8D-4F8A-4F97-8B0B-4DA2B2F48E8B}"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0FFDCE-4BD0-4620-B443-B05D5491BB45}"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416773-3EC1-4535-8754-1514D61F114D}"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1868BB-A3A9-4773-B3D3-27F659FF4080}"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9CDEBC-E431-4B77-9470-CB6136641C20}"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60DD7C-6D7F-4090-AECF-84B89DFF0903}"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390B01-4DA1-4A30-BDA7-499A4800EFEB}"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F16052-7484-4BC5-8A97-F3066F9C63B4}"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E323BC-5E4B-40BE-A449-076378934757}"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14BCF4-03F3-4512-BCC9-E9263CBBD0FA}"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4FB689-0BC2-423F-84DB-34EAAEC0E8CB}"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40DD0A2-696F-452F-B99A-0DD04BC9BF08}"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55F0B9-8A5D-4BE6-82C6-1CE6B443402C}"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F757FC-305D-4313-A910-70248CD33DA0}"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BB2CD3-B2AB-40DE-8663-C728FDBF3BEA}"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7CC75C-4188-46A2-8A20-41D71C6535B6}"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6A02C6-1206-4B13-884F-5BEA37CDBE0C}"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9C95BE-6C54-4284-8260-4EEEA27D333F}"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BDD6AA-8767-402D-B4C3-AD9ACC306FCF}"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6207E9-997F-4DF6-8CE9-55A74FC64572}"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E68266-9EB8-42B2-8CBC-D07B8CE7F03B}"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67B93E-380A-42E6-8D6B-D7D63D5CD0AE}"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FB9543-62F1-438C-A0EB-B815EA8DE2E4}"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ECFBB1-333E-40F8-89E4-5BEA8DFC725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8514F1-D53F-4324-AC94-CEDF2D0E2128}"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16E4AE-D266-476F-BDE1-9090E8F70F69}"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1FC462-43E0-4351-AE30-7C6CBD56BF8B}"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0D92B8-BD6F-48DA-87D7-650D36758029}"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D2582C-6575-4E28-BC46-A9B21297713A}"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23F2BC-7B49-4CB9-8555-0BC405BA1158}"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ADBFB0-F6B2-4DB3-8014-1DBB91FCC1EF}"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1FA6B3-7BCE-419B-B11F-D91A5BEAF9DA}"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05E31F-1068-4B6D-BE67-21F2BA4935C3}"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6C576E-7A30-4B9E-9D15-42EAE8399F2A}"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BD0231-60B2-4995-B43F-BC9BF35DB0F8}"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333024-ADA4-4C97-92D7-82B5ECF6E062}"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0C3C54-79AA-463F-8697-2221B9388D85}"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B4D405-3732-4111-B4D1-AAC463AEFA18}"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1B3834-5AF9-4568-B873-34A701F2AC62}"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BD1088D-A2CB-4FCC-8637-0B5587CB1102}"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265C06-F638-40D4-A636-916369AF209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E27C73-4B15-41C3-8A8C-92BF627B57C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772A3C-7124-4180-B6EE-DD5925AFC8A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FA862C-A116-4062-99FA-B4ABBDE78C6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D858BF-FB6F-46DB-A3D9-EC0B2A03040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FC49AA-2313-471B-A3E1-BBF958E7CE0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139A433-C2C2-47E4-8BD8-14251003092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D07C41-6F4A-481D-B8C6-08A727B94D2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D62B67-7182-42C4-B9AD-40B58D097EF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7E7FBD-CBA8-42FA-A19A-5E84D8F0EEC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F82941-E591-4710-8191-77A324F3323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DA6C40-6F0F-419E-B344-F824CFC89CB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E717B2-C45F-477C-B003-424EE360098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04D4E2-02AD-4341-BCF4-BFD368ABFF2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FC5E68-7B63-485E-B508-5E9DA3D7D4C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97F19C-F580-428F-8F56-03FB760BC22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1B599F-9C93-4CFD-A5C7-2D0C7253F90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8867DB-4D85-4CF1-8751-1E1BF91987A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CE7D25-738D-4D95-BDB2-9602B35EE04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125D8A-A322-4811-B736-42C9DD539BA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4219FD-463D-4A02-81CE-93363AB3302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EBC2E4-02FA-4137-AC09-D700D169F22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4AC53D-D109-4683-B3C9-48639DA9BC9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8C0997-BBBC-4397-B2EF-17E9A177A0C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9561C4-8E4C-4ABE-A919-A2B958A9FB1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89DAED-CC5E-48EB-8580-CBACF99B29F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84C648-CE26-4694-A0DB-A86C8341E06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7D1EAA-B0EB-4F41-87C6-AA5C9C159A1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833DC2-3D71-445A-B473-24C7D1F4FAD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AF4D43-9E82-44FF-BB26-04F129F73A2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6E03AB-E97B-4AE8-80AB-A4723789558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F5A9ED-3961-43E7-AE88-9BE04ECBC8E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EE7A47-CF19-4BD3-8EB2-AC9CB0674F41}"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5371E8-50D8-430B-9A78-B303D73D4BD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A769ED-A2E7-4A2F-98A9-BA54DB54006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1D17E9-8260-46BE-9063-A37FA5FAF02D}"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91B636-B8E6-4F44-8929-EF125C9BD93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DD8745-5F53-42A2-AA01-549D17AD7B3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98F033-E5E1-4925-BFA8-BB804005E57A}"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AD65C3-2257-4FC4-9588-8A830A6FC4B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4F70AA-CC22-4932-B83B-CB3F1DFA800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9BED66-7D2D-4097-AFFE-341E6AD57B8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318793-6FC2-42DA-B811-35CC34FFA8EF}"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D82DBC-256F-49B3-8F50-1FEBAEB749F8}"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5B96F3-3148-4E4B-AEB1-09C920F46FE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E51E99-4783-49AC-923D-3ADDE5F14EEC}"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CE5D4A-F19A-4A87-8FF3-50F9A7B8515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F549B6D-D339-47D0-864F-B3C121D0B29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557973-7F61-4770-801F-8FFD9B5FD92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691C62-7279-4685-B787-0554B396C803}"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01CDF6-770C-47CA-A0FD-1AF097C4DD48}"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189DF1-E759-4AA2-8C30-F444ECEF4FC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FA4512-8DA9-466E-88E7-031C9D8046D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BC7A5D-86AD-4F23-97E3-3851709A0720}"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1A1EA7-FEFB-4066-8742-14CEEA29696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E07E80-9A6A-4F38-B6FF-5EE29622C7A7}"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791C674-30D7-4B5F-843B-081B7D3A6A0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1F7BEE-7DFC-4FD7-B6E9-7993A424BB56}"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B85001-A90B-409F-B9F6-C773172F7876}"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7B65DA-B12B-4F10-ABE2-ACA3C798D210}"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AD09C9-B7AA-41FF-91A8-9433E726DC1C}"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C97360-444F-489D-9387-FCCF2AD231E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2FCE68-61F6-44B2-B91C-9C4DA31C0314}"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716EB5-B79F-49DD-8E48-8BAB8A768E9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E3BBC6-044A-40DD-9540-854C17C9197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FA4588-8A48-41B5-9DA5-5BD2D352FC4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7F9F28-8728-4E55-ABB5-E67CCBA86611}"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DFD6F4-D3DB-4140-9D5F-162C62125FDF}"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FB548C-23C1-479A-B57E-1D3E11F7A55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AD24DB-63DF-4586-8321-AA9A78E8CF7D}"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6166B6-09F7-48C3-A8DE-9AE4BB63A6C0}"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0C70B04-8F67-476B-8F61-79BD2F9B0FB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F0D59E-947A-4A75-9882-FD0F61892487}"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C0B093-D61D-473D-971E-BAF9E6B9590D}"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144681-6B23-4A8C-92CF-5157F521C3D2}"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671EC8-D7D1-444D-B756-2D68AA21D322}"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647245-4158-4A39-AA7F-DC03DAF33A5B}"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5DF2FF-1082-4825-AB17-ACC46DE7DA42}"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F3D262-D621-44DA-A2D1-6DD89946902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731918-71BD-435E-AE9E-C7F5BD879A18}"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4F2A11-B278-4C5D-8579-A802313446B4}"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BD3F01-F4D8-4F3F-AF9B-36A0F3D838FC}"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B8CD0E-B4B9-4B54-90D4-B6ED78BCDB26}"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09F9AE-3231-4D0B-A733-E43CAA0FBA6C}"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E3DDE2-4034-4DC7-B4E8-63C8CAF013F5}"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