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244006"/>
        <c:axId val="87737671"/>
      </c:barChart>
      <c:catAx>
        <c:axId val="812440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737671"/>
        <c:crosses val="autoZero"/>
        <c:auto val="1"/>
        <c:lblAlgn val="ctr"/>
        <c:lblOffset val="100"/>
        <c:noMultiLvlLbl val="0"/>
      </c:catAx>
      <c:valAx>
        <c:axId val="877376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2440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DB85-80E2-4F4B-8BED-848FB5E14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36DE-D4FA-4C6E-8AF1-54A5BA293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ECB7-A953-4820-95FD-0A2A3030C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6D80-A72C-49B3-8954-34F2816F4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6832-BC13-48D0-A458-249A9F408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3DF2-0233-47BC-855B-410ABD40D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DB09-9451-41F2-AA08-B0C7F7BF3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211E-F184-40AF-A07B-9C7E1085D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D7F0-37AC-4BBB-B48D-1C805037D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CD1A-35E9-4A3E-BD27-B521CDD2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FCD2-99EF-4056-852D-1ED5333F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7884-782D-45F8-9E10-DA9C8EF6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3A79F3-3ECA-475D-A8A2-DDDB55D3C5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