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88874"/>
        <c:axId val="17296466"/>
      </c:barChart>
      <c:catAx>
        <c:axId val="47488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96466"/>
        <c:crosses val="autoZero"/>
        <c:auto val="1"/>
        <c:lblAlgn val="ctr"/>
        <c:lblOffset val="100"/>
        <c:noMultiLvlLbl val="0"/>
      </c:catAx>
      <c:valAx>
        <c:axId val="17296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88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F29-E169-4F24-9CAB-597B80D2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195-2DA1-40B1-8DDE-3337A502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867-CBB2-4F0E-A377-4FBFD9A6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E64-FDCC-46DD-9CF1-5C75A334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02A-4218-4932-8016-7C9BE698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EA2-7532-4E7B-931B-225170C3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239-5A1F-4D02-8326-B77FF057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D3E-4F94-46AD-AF26-D114AA3A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911-AEC8-4CEC-904D-FFB6EE2A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280-AEF5-4223-89E7-8874C91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660-802A-4DEF-9950-405AC75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D3F-7FBE-4C59-9FDE-E13002B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4E444-7956-4330-BD89-87739FE645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