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32523"/>
        <c:axId val="52529782"/>
      </c:barChart>
      <c:catAx>
        <c:axId val="18832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29782"/>
        <c:crosses val="autoZero"/>
        <c:auto val="1"/>
        <c:lblAlgn val="ctr"/>
        <c:lblOffset val="100"/>
        <c:noMultiLvlLbl val="0"/>
      </c:catAx>
      <c:valAx>
        <c:axId val="52529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32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371-027E-426A-A6CF-54409625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028-0F55-487A-A768-2303155F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4B7-7650-4142-897B-30B7D6BE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DB3-811E-4AA7-826F-4BD2D129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02A-84DB-47DC-A742-0011DFC0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3F9-D10D-495C-A0F8-A43935A9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498-1E1E-4ADB-8BFF-38396F0A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8C8-7BDF-4308-9AD5-BFF3B849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3D9-A67E-4BF7-8B41-FEAC74AA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860-42DF-41CD-8269-7545B86C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809-3AD6-429B-9D34-43E973F6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F27-4E78-451F-89A7-C896852B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0EB8B-7927-437F-A9E9-9F068AA397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