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3304243"/>
        <c:axId val="99165738"/>
      </c:barChart>
      <c:catAx>
        <c:axId val="1330424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165738"/>
        <c:crosses val="autoZero"/>
        <c:auto val="1"/>
        <c:lblAlgn val="ctr"/>
        <c:lblOffset val="100"/>
        <c:noMultiLvlLbl val="0"/>
      </c:catAx>
      <c:valAx>
        <c:axId val="9916573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30424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3A59-5A7F-4801-A973-FA52BA594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5140-1263-49C0-94AD-104787340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B017-B59E-4796-B214-6080154E8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219F-B071-4E6D-B1AA-56A5529F7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A067-4259-4517-A4C7-B0B394D9E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25AC-F6CE-4556-A753-7785A69CB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DDCA-1656-4319-9A9D-33E9B4710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54E6-691B-45ED-B8BA-5D29EF3D6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EDE4-8F5D-4D0D-A776-37AC37EE0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F70C-DB4E-4B9F-B499-6EC483BDF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3241-8797-489D-81B2-06BF4EEDB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903D-D387-46FE-9840-FB1E48809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FDFDEE-3ECF-49CE-9634-C103287994C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