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48952"/>
        <c:axId val="3647024"/>
      </c:barChart>
      <c:catAx>
        <c:axId val="75948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7024"/>
        <c:crosses val="autoZero"/>
        <c:auto val="1"/>
        <c:lblAlgn val="ctr"/>
        <c:lblOffset val="100"/>
        <c:noMultiLvlLbl val="0"/>
      </c:catAx>
      <c:valAx>
        <c:axId val="3647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48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11F-2FF4-49C3-A6FE-696DD634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7DD-B554-4CF8-A50F-9C35A1CE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646-B39F-43EA-97DF-27827FDE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C57-0948-48D9-9207-02CF889D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9D5-628F-456F-B4D4-6D52D3C4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267-72E3-43A3-B8A3-559F6417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3C0-4397-4415-B6F1-F462A4AD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56E-BA08-4427-A469-7F0E09C7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402-1090-4705-95CB-60173851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BE3-2931-4314-AED8-974BEE3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507-1DF7-4802-8E9E-CC086D2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A43-D8EA-461B-BA67-63DC792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D4C0E-E1D2-465D-A2A4-C7C4F674E1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