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52279"/>
        <c:axId val="94800719"/>
      </c:barChart>
      <c:catAx>
        <c:axId val="77652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00719"/>
        <c:crosses val="autoZero"/>
        <c:auto val="1"/>
        <c:lblAlgn val="ctr"/>
        <c:lblOffset val="100"/>
        <c:noMultiLvlLbl val="0"/>
      </c:catAx>
      <c:valAx>
        <c:axId val="94800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52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1E8-FCF4-4809-B046-F200C9CB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E20-EA28-44AB-B2DD-B6CD11B2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BE4-3485-4A6A-AA85-336E3A3B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E31-B3EA-4EB0-946A-5C547C71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31A-A0A1-401B-8F80-365EA680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452-4B3E-4026-8851-33F8E3D5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EF9-1709-4CEB-9F10-EDE774AA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E88-B68E-4417-B9E4-95107BD1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D82-B80F-4064-944B-865DCF69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F7D-733D-4548-B062-D7584A86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10A-B99D-42A8-8296-7A20935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3E2-84F7-4272-BD98-DB0EF116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13D1E-9948-41AB-87EB-B08E1B4D4B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