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534046"/>
        <c:axId val="59086490"/>
      </c:barChart>
      <c:catAx>
        <c:axId val="165340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086490"/>
        <c:crosses val="autoZero"/>
        <c:auto val="1"/>
        <c:lblAlgn val="ctr"/>
        <c:lblOffset val="100"/>
        <c:noMultiLvlLbl val="0"/>
      </c:catAx>
      <c:valAx>
        <c:axId val="590864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5340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2086-EF13-440F-A326-0C4A07BCF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B6A3-D739-41E0-9710-F1B513525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7A34-3EAF-451C-B8E9-6F303F8C8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FFF9-94A8-49DA-8BB4-07443F1A9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B057-C4B1-4E44-B13D-289B5F424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B455-EE4A-441E-98E8-69A5F342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9915-7761-4DAE-B698-8AA67BC45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6121-A396-40C0-9CF0-E175CE7EC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D8C0-490C-42E4-BB07-08D9F02C4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EA12-6531-4B70-BBFD-D976BBB0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22FD-A437-4108-889E-99478F34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6AE9-4914-41DE-A284-2AF1C3CD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538E1D-1B0F-4F3A-B228-F8DFE9A1C36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