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764987"/>
        <c:axId val="24524352"/>
      </c:barChart>
      <c:catAx>
        <c:axId val="737649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24352"/>
        <c:crosses val="autoZero"/>
        <c:auto val="1"/>
        <c:lblAlgn val="ctr"/>
        <c:lblOffset val="100"/>
        <c:noMultiLvlLbl val="0"/>
      </c:catAx>
      <c:valAx>
        <c:axId val="245243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649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917B-4B10-4350-A6E9-C6974ED5B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2CEA-7385-456F-B4C1-FDD56620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F7B8-B140-48E1-A85A-57F76FCFE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33E2-EC2A-4CC6-88F5-2B9AF1862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2F2B-A635-4AA1-B30B-F647EA6F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CF8C-4163-4205-BA89-675F83E8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9455-FE35-41CE-9D7D-4F8AD347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1C39-8F99-4F63-9588-1D08720D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3070-7476-443D-B28D-C541FDE3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0CBA-0C6B-4BC7-9FB3-1B6A2D49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92F9-11F9-4751-BB24-BFCFEB80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DE20-8852-43FC-99A5-07EA2263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77CED-997C-4CC3-9877-FCC49BFDD0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