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19497"/>
        <c:axId val="87437757"/>
      </c:barChart>
      <c:catAx>
        <c:axId val="44919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7757"/>
        <c:crosses val="autoZero"/>
        <c:auto val="1"/>
        <c:lblAlgn val="ctr"/>
        <c:lblOffset val="100"/>
        <c:noMultiLvlLbl val="0"/>
      </c:catAx>
      <c:valAx>
        <c:axId val="87437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9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C0D-828B-4C96-AAB8-9433F735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142-515E-48A6-B84D-D36B4207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DC6-35D3-46D1-AA51-E87549EE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6CF-181F-4DDD-ABB3-CA5C9307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3D3-77C9-4ACE-983F-F3D76286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AB6-6DC3-4901-96DE-2B2C0C1B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E68-5DB5-4177-A77E-72FCC197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5CA-9C50-4EFC-B90A-23C05875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3A1-02F5-429F-B269-26A52C0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3A2-536A-44E1-8EC3-13FC90A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8ED-36CA-436E-80B9-B5E46A0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3FC-5E11-43C7-B149-C00B376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B372F-AB06-4C21-AA28-27B8AE102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