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91913"/>
        <c:axId val="81440823"/>
      </c:barChart>
      <c:catAx>
        <c:axId val="90091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40823"/>
        <c:crosses val="autoZero"/>
        <c:auto val="1"/>
        <c:lblAlgn val="ctr"/>
        <c:lblOffset val="100"/>
        <c:noMultiLvlLbl val="0"/>
      </c:catAx>
      <c:valAx>
        <c:axId val="81440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91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E02-1211-46EA-A976-C80F921D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C05-196A-4F40-B807-09013E5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E7E-7117-4001-9E3D-422F651A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764-B1E2-40E5-960A-90B61C1C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965-9182-4809-BA70-43217AE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7DB-4A62-4BAE-A699-FA0DC320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FC7-642C-4A82-AB75-9817B19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559-4474-4DF9-9BBD-F73AF67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E11-37C5-486F-9D0C-F997B5F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500-4981-4E06-8B04-A31BD13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759-ADA1-435D-B8FB-FA632BD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9C4-4FB6-4B94-BE35-6275916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9652A-6D52-43F9-9280-F22E0200BC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