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4514815"/>
        <c:axId val="30535895"/>
      </c:barChart>
      <c:catAx>
        <c:axId val="1451481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535895"/>
        <c:crosses val="autoZero"/>
        <c:auto val="1"/>
        <c:lblAlgn val="ctr"/>
        <c:lblOffset val="100"/>
        <c:noMultiLvlLbl val="0"/>
      </c:catAx>
      <c:valAx>
        <c:axId val="3053589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51481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A399-45BA-43B6-9F46-CEAEA4921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1E73-FE10-402A-BDB0-631D69610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F947-AFAF-463C-B182-58BF77F9F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D62C-8832-4396-B480-B2F772B04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A11F-C11E-4A66-B82C-952C33C95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C502-92B5-4605-A8CC-7391F4720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44CF-5F8D-4813-A08E-8CD547885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7A77-5E55-4A87-A7B7-2DC737616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AB25-FE13-4A96-9F93-09DC9F7F7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D240-B6C0-475C-A622-3340BB6AC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354C-D038-4100-8AC6-66BE3E1EF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1F4B-2DCC-43A1-9A05-3FEA3F5B5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B801BC-9C1E-496D-83E8-DD389608E15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