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75042"/>
        <c:axId val="15392961"/>
      </c:barChart>
      <c:catAx>
        <c:axId val="44775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92961"/>
        <c:crosses val="autoZero"/>
        <c:auto val="1"/>
        <c:lblAlgn val="ctr"/>
        <c:lblOffset val="100"/>
        <c:noMultiLvlLbl val="0"/>
      </c:catAx>
      <c:valAx>
        <c:axId val="15392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75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195-370F-4E39-A661-EECCDF7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818-04DC-4B91-BC71-B4E0B69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6E1-CB2F-4D03-AB22-FCF076EC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9C9-1815-46ED-9223-0F1D0F62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1B7-174F-4E8A-9FE4-DFD0F45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169-E678-4368-A773-DED31965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E3E-A933-49B2-A114-C5A0347C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FDE-6BFA-4635-9FD9-047A716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64D-CE86-4BA6-9EB8-E950D5DA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7E9-252B-41B9-997B-189A05E2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130-2271-4A0C-818F-6184B2CB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451-590B-4218-9B66-01343B3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F1AE6-6806-4C84-9635-A52C8F74F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