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603792"/>
        <c:axId val="91084012"/>
      </c:barChart>
      <c:catAx>
        <c:axId val="256037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084012"/>
        <c:crosses val="autoZero"/>
        <c:auto val="1"/>
        <c:lblAlgn val="ctr"/>
        <c:lblOffset val="100"/>
        <c:noMultiLvlLbl val="0"/>
      </c:catAx>
      <c:valAx>
        <c:axId val="910840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6037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992F-DD0D-4CD3-9CD2-2B90E277C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1C93-5681-43C1-962E-711434CA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1AAC-9A36-4BB0-9640-FAB71965E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911E-D6C1-4FF9-B08D-CB4348440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756B-67FA-4314-8A9B-00D8A2BC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7C8E-B385-4F5A-A88C-99FFF903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BD11-83E3-41CD-97F4-8A640011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D14A-B569-442F-BBA1-9C098D45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FE77-643E-4667-ADAE-93230FDE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9F48-1DA1-452D-8E2B-F258370B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5AF8-DAF0-47BB-B569-D6ED80CF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C4C1-DCFC-4868-B3CB-27DB1426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CFAA7-639B-4096-B303-7BEC3FBC17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