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46438"/>
        <c:axId val="61294150"/>
      </c:barChart>
      <c:catAx>
        <c:axId val="74946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4150"/>
        <c:crosses val="autoZero"/>
        <c:auto val="1"/>
        <c:lblAlgn val="ctr"/>
        <c:lblOffset val="100"/>
        <c:noMultiLvlLbl val="0"/>
      </c:catAx>
      <c:valAx>
        <c:axId val="61294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46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E1-CA29-4A68-BECD-92F6B2BF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667-7760-4925-979F-160859AC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FE6-3BB6-4E3A-9E6C-7AA03113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959-B77B-4256-909D-56C1E577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5F7-D050-4ABA-A3BC-8830BDC0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474-65D4-454A-B227-536C84C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534-A4B2-48B2-AE48-2B8B3D5C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2CA-76FA-417F-826D-FAA3BDA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F63-3C78-4ADB-B3BF-9EEDCC2D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162-6E5C-4DA6-807C-349AED3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8C0-0B37-4FDC-BFD0-2872F85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52C-88D2-45E0-9500-AFD480D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243F-AFE2-4B90-BB63-F899A8C0A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